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643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79840" y="3154320"/>
            <a:ext cx="311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90400" y="6203880"/>
            <a:ext cx="124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FADD-6DF2-4364-ADD8-EED636C7B4B6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828800" y="3657240"/>
            <a:ext cx="55627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ZINÁROD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KA PÍSK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or John P. Hill, překlad Milan Ví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ides &amp; Graphics by ZLAX Pub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runningref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643120" cy="281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5486400"/>
            <a:ext cx="24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/27/00  Manchester, Eng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539640" y="1066680"/>
            <a:ext cx="8064720" cy="509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044960" y="201312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21280" y="52894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200400" y="200628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943600" y="1929960"/>
            <a:ext cx="0" cy="336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8080" y="342900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97640" y="342900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09920" y="3338640"/>
            <a:ext cx="52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82280" y="338616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00400" y="60447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200400" y="55875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943600" y="10922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200400" y="10918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200400" y="520668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5943600" y="52066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943600" y="1549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114800" y="1778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029200" y="1778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2666880" y="711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553080" y="711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572000" y="1015560"/>
            <a:ext cx="0" cy="519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16360" y="6311880"/>
            <a:ext cx="388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nkář chytil střelu - Fast 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61760" y="34606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87560" y="3238560"/>
            <a:ext cx="520560" cy="291960"/>
          </a:xfrm>
          <a:prstGeom prst="rightArrow">
            <a:avLst>
              <a:gd name="adj1" fmla="val 50000"/>
              <a:gd name="adj2" fmla="val 8915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33520" y="28954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95280" y="41148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414600" y="21510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098720"/>
            <a:ext cx="27432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(nový Trail) počítá 4s brankář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naží se zůstat za posledním účastníkem clearu. Když míč přejde střední čáru kontroluje se CBO off-side a zaujme běžnou poz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480" y="4375080"/>
            <a:ext cx="266724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při save běží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říž, pokud to rychlost a směr přesunu míče dovolí, zastaví a kontroluje offside. Pokud ne běží dál a CBO zodpovídá za offside. Stále sleduje pohyb míč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05520" y="1122480"/>
            <a:ext cx="268128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(nový Lead) co nejrychleji zaujme obvyklou poz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ále musí mít přehled o míči a pokrýt brankoviště a zadní čár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758960" y="2158920"/>
            <a:ext cx="120636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21080" y="4686480"/>
            <a:ext cx="2120760" cy="151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664080" y="1472760"/>
            <a:ext cx="181584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730760" y="4216320"/>
            <a:ext cx="2349360" cy="176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92880" y="1486080"/>
            <a:ext cx="2197080" cy="173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8548560" y="608940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412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1520" y="717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6123200">
            <a:off x="8273880" y="54741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4191120" y="870120"/>
            <a:ext cx="3045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43400" y="641520"/>
            <a:ext cx="60948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2280" y="428760"/>
            <a:ext cx="190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Poznámka: C a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si vymění strany v box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6600" y="48888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64520" y="2462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31000" y="2462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273560" y="26028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81080" y="5716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91320" y="5716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04920" y="6746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04760" y="6890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77480" y="2851200"/>
            <a:ext cx="108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ěr h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95000" y="1708200"/>
            <a:ext cx="28148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leduj, jestli jde stále o fast-break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95000" y="5365800"/>
            <a:ext cx="28148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leduj, jestli jde stále o fast-break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541440" y="1065240"/>
            <a:ext cx="8064360" cy="50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46400" y="201132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22720" y="528804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201840" y="2004840"/>
            <a:ext cx="0" cy="321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945040" y="1928880"/>
            <a:ext cx="0" cy="33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7952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39944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11720" y="3336840"/>
            <a:ext cx="52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83720" y="33847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201840" y="604368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201840" y="55864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945040" y="10904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201840" y="10900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201840" y="5205240"/>
            <a:ext cx="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945040" y="52048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945040" y="154764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573440" y="1014480"/>
            <a:ext cx="0" cy="51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40760" y="6310440"/>
            <a:ext cx="393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nkář chytil střelu - Slow 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63560" y="345924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89000" y="3236760"/>
            <a:ext cx="520920" cy="292320"/>
          </a:xfrm>
          <a:prstGeom prst="rightArrow">
            <a:avLst>
              <a:gd name="adj1" fmla="val 50000"/>
              <a:gd name="adj2" fmla="val 89109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34960" y="28353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96720" y="43592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16400" y="21495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8440" y="1173240"/>
            <a:ext cx="26748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(nový Trail) počít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s brankář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naží se zůstat za poslední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účastníkem clear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smí ztratit kontakt s míče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ra se může obrát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0360" y="5059440"/>
            <a:ext cx="277056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se přesvědčí, že míč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ěřuje ke středové čáře a běž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 kříž. Sleduj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fside a pomáhá Trailo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4520" y="1120680"/>
            <a:ext cx="257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(nový Lea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eduje míč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ále musí mít přehled o míč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pokrýt brankoviště a zadn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čár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406520" y="638496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481040" y="2233440"/>
            <a:ext cx="38160" cy="47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48080" y="4761000"/>
            <a:ext cx="1670040" cy="113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665520" y="1471680"/>
            <a:ext cx="1816200" cy="698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4732200" y="4214520"/>
            <a:ext cx="2349720" cy="176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37080" y="1554120"/>
            <a:ext cx="2197080" cy="173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16200000">
            <a:off x="8294400" y="608796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14400" y="645480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386160" y="1344600"/>
            <a:ext cx="469800" cy="13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4111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16123200">
            <a:off x="8197560" y="54723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64400" y="10969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heck off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1148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50292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6668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5530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21520" y="716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73640" y="4874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64520" y="2444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31000" y="2444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73560" y="2588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81080" y="5698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1320" y="5698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704920" y="6732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04760" y="6872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83240" y="2849400"/>
            <a:ext cx="89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ěr h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95000" y="1706400"/>
            <a:ext cx="28148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leduj, jestli jde stále o fast-break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195000" y="5364000"/>
            <a:ext cx="28148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leduj, jestli jde stále o fast-break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39640" y="1065240"/>
            <a:ext cx="8064720" cy="50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44960" y="201132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21280" y="528804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200400" y="2004840"/>
            <a:ext cx="0" cy="321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943600" y="1928880"/>
            <a:ext cx="0" cy="33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37808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9764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09920" y="3336840"/>
            <a:ext cx="524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382280" y="33847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200400" y="604368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00400" y="55864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943600" y="10904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200400" y="10900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200400" y="5205240"/>
            <a:ext cx="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943600" y="52048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943600" y="154764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41148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0292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6668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65530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572000" y="1014480"/>
            <a:ext cx="0" cy="51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96880" y="6324480"/>
            <a:ext cx="350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e-off při přesilovce týmu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84360" y="638496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7400" y="1096920"/>
            <a:ext cx="270684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 je třeba hlídat: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čas do konce peri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čas do vypršení tre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 je volné křídlo u trestné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estli zbývá méně než 5s 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nce tre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) co smí a nesmí  hráč, jemu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ončil trest dokud nen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se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10920" y="1144440"/>
            <a:ext cx="266112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 případě, že oslabený tý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plní hráče na křídl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1 a R2 se stáhnou ke konc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řídelních čar, aby mohli lé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krýt případný offside př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sesion. Stále ale platí, ž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sí pokrýt brankoviště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dní čáru při případné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brea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90560" y="295920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99840" y="34923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76160" y="47260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819520" y="2882880"/>
            <a:ext cx="30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05120" y="3340080"/>
            <a:ext cx="30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81440" y="4878360"/>
            <a:ext cx="30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509480" y="34304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28640" y="32018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710240" y="3659040"/>
            <a:ext cx="30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377120" y="3430440"/>
            <a:ext cx="30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10080" y="33717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86040" y="44211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709880" y="16779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00400" y="1677960"/>
            <a:ext cx="30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52680" y="5259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86200" y="5335560"/>
            <a:ext cx="30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615000" y="3371760"/>
            <a:ext cx="30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15000" y="4192560"/>
            <a:ext cx="30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67640" y="3767040"/>
            <a:ext cx="30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440" y="2588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86920" y="32306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14240" y="1782720"/>
            <a:ext cx="42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19360" y="5211720"/>
            <a:ext cx="42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8548560" y="608796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447920" y="643104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3520" y="4111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21520" y="792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650120" y="4111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16123200">
            <a:off x="8273880" y="53967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1782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409720" y="5592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64520" y="2444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931000" y="2444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3560" y="2588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81080" y="5698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1320" y="5698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04920" y="6732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04760" y="6872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4160" y="5288040"/>
            <a:ext cx="2391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šichni rozhodčí musí mí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řehled zda oslabený tý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adil křídl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539640" y="1065240"/>
            <a:ext cx="8064720" cy="5092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44960" y="201132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21280" y="528804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200400" y="2004840"/>
            <a:ext cx="0" cy="321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943600" y="1928880"/>
            <a:ext cx="0" cy="33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808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39764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09920" y="3336840"/>
            <a:ext cx="524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82280" y="33847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3200400" y="604368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200400" y="55864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5943600" y="10904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3200400" y="10900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200400" y="5205240"/>
            <a:ext cx="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943600" y="52048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5943600" y="154764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1148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50292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6668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5530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4572000" y="1014480"/>
            <a:ext cx="0" cy="51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34320" y="6310440"/>
            <a:ext cx="2569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 na postranní čá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84360" y="646128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rot="16200000">
            <a:off x="3397320" y="5789520"/>
            <a:ext cx="520560" cy="292320"/>
          </a:xfrm>
          <a:prstGeom prst="rightArrow">
            <a:avLst>
              <a:gd name="adj1" fmla="val 50000"/>
              <a:gd name="adj2" fmla="val 8904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3816360" y="2550960"/>
            <a:ext cx="520560" cy="216000"/>
          </a:xfrm>
          <a:prstGeom prst="rightArrow">
            <a:avLst>
              <a:gd name="adj1" fmla="val 50000"/>
              <a:gd name="adj2" fmla="val 120511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33520" y="29574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576160" y="56246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67240" y="20430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72520" y="5792760"/>
            <a:ext cx="49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í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7960" y="1144440"/>
            <a:ext cx="1934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má brankoviště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61040" y="1143000"/>
            <a:ext cx="1802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a CBO hlídaj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šechna střídání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16200000">
            <a:off x="8548560" y="601164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33520" y="4111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3800" y="716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040280" y="4874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952600" y="4145040"/>
            <a:ext cx="267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musí signalizovat smě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ry ihned, jak míč překroč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čáru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ujme postaven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dpovídající směru h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zahájí hru co nejdří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16123200">
            <a:off x="8273880" y="54723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64520" y="2444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931000" y="2444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73560" y="2588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81080" y="5698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1320" y="5698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04920" y="6732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4760" y="6872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341960" y="589752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30800" y="2773440"/>
            <a:ext cx="89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ěr h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46120" y="1096920"/>
            <a:ext cx="8064360" cy="509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51440" y="20430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27400" y="53197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206880" y="203652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950080" y="1960200"/>
            <a:ext cx="0" cy="336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84200" y="345924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04120" y="345924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16400" y="3368520"/>
            <a:ext cx="52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88400" y="34164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206880" y="6075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206880" y="56181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950080" y="112212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206880" y="112248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206880" y="523692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950080" y="523692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950080" y="157932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578480" y="1045800"/>
            <a:ext cx="0" cy="519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86840" y="6303960"/>
            <a:ext cx="211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 na zadní čá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508040" y="6410160"/>
            <a:ext cx="225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861320" y="5554800"/>
            <a:ext cx="596880" cy="215640"/>
          </a:xfrm>
          <a:prstGeom prst="rightArrow">
            <a:avLst>
              <a:gd name="adj1" fmla="val 50000"/>
              <a:gd name="adj2" fmla="val 13841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41600" y="2735280"/>
            <a:ext cx="978120" cy="291960"/>
          </a:xfrm>
          <a:prstGeom prst="rightArrow">
            <a:avLst>
              <a:gd name="adj1" fmla="val 50000"/>
              <a:gd name="adj2" fmla="val 16752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459560" y="291312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002000" y="55040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26200" y="222732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12000" y="5313240"/>
            <a:ext cx="2376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v tomto případě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hajuje hru po domluvě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22800" y="1204920"/>
            <a:ext cx="258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BO má všechny střídající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uvolní cestu střídající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, aby je měl před sebo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100920" y="1198440"/>
            <a:ext cx="2575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v 99% píská out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ětšinou i zahajuje hr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 tomto případě ale zahajuj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ru Single, protože je blí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a se domluví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6200000">
            <a:off x="8624880" y="603720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54800" y="11606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423040" y="1579680"/>
            <a:ext cx="139680" cy="698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576520" y="663264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520" y="4366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16123200">
            <a:off x="8273880" y="549792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4114800" y="20160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029200" y="20160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666880" y="7351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553080" y="7351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6600" y="7412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26080" y="5126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964520" y="27000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931000" y="27000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3560" y="2840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81080" y="59544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91320" y="59544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04920" y="6984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04760" y="7128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430800" y="2341440"/>
            <a:ext cx="89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ěr h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78040" y="5770440"/>
            <a:ext cx="49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í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9640" y="1096920"/>
            <a:ext cx="8064720" cy="509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44960" y="20430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21280" y="53197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3200400" y="203652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943600" y="1960200"/>
            <a:ext cx="0" cy="336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78080" y="345924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397640" y="345924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09920" y="3368520"/>
            <a:ext cx="524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82280" y="34164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3200400" y="6075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200400" y="56181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943600" y="112212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3200400" y="112248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200400" y="523692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943600" y="523692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5943600" y="18712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4114800" y="20772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5029200" y="20772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666880" y="741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6553080" y="741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572000" y="1045800"/>
            <a:ext cx="0" cy="519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61880" y="6335640"/>
            <a:ext cx="2706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 ve střídacím úze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508040" y="6410160"/>
            <a:ext cx="225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6200000">
            <a:off x="4654440" y="1058400"/>
            <a:ext cx="368280" cy="216000"/>
          </a:xfrm>
          <a:prstGeom prst="rightArrow">
            <a:avLst>
              <a:gd name="adj1" fmla="val 50000"/>
              <a:gd name="adj2" fmla="val 85258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807080" y="3954600"/>
            <a:ext cx="520560" cy="291960"/>
          </a:xfrm>
          <a:prstGeom prst="rightArrow">
            <a:avLst>
              <a:gd name="adj1" fmla="val 50000"/>
              <a:gd name="adj2" fmla="val 8915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649400" y="7412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í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414600" y="131292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453440" y="29894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01720" y="59990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0840" y="1152360"/>
            <a:ext cx="25527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zahajuje hru 5m kol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d postranní čáry. Sám stoj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, aby mohl reagovat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řípadnou změnu směru h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98400" y="1128600"/>
            <a:ext cx="1883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a Single mus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munikova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má brankovišt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45040" y="4856040"/>
            <a:ext cx="2556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je na kříži a spolu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BO hlídá výměny hráčů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řední čáře a offside. Př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řesunu hry zaujme 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jrychleji běžnou poz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75720" y="5497560"/>
            <a:ext cx="237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námka: Ujistěte se, k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íč opustil ploch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16200000">
            <a:off x="8624880" y="611316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89388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733920" y="9064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98280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62720" y="9064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92680" y="128124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339000" y="2295360"/>
            <a:ext cx="102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m zó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3740040" y="1427040"/>
            <a:ext cx="368280" cy="9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4807080" y="4703400"/>
            <a:ext cx="189216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119320" y="655632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3520" y="4366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421520" y="747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16123200">
            <a:off x="8273880" y="549792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16600" y="5000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964520" y="27000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931000" y="27000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73560" y="2840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81080" y="59544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791320" y="59544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04920" y="6984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804760" y="7128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726440" y="3484440"/>
            <a:ext cx="89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ěr h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539640" y="1071720"/>
            <a:ext cx="8064720" cy="5092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044960" y="20178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21280" y="529416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3200400" y="201096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5943600" y="1934640"/>
            <a:ext cx="0" cy="336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378080" y="34336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97640" y="34336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309920" y="3343320"/>
            <a:ext cx="52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382280" y="3390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3200400" y="604944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3200400" y="559224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5943600" y="10969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3200400" y="109656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3200400" y="521136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5943600" y="521136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943600" y="15537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572000" y="1020240"/>
            <a:ext cx="0" cy="519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9080" y="6310440"/>
            <a:ext cx="2389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tup při Time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08040" y="646128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035680" y="3548160"/>
            <a:ext cx="596880" cy="291960"/>
          </a:xfrm>
          <a:prstGeom prst="rightArrow">
            <a:avLst>
              <a:gd name="adj1" fmla="val 50000"/>
              <a:gd name="adj2" fmla="val 102228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694560" y="1684440"/>
            <a:ext cx="111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s míče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377120" y="12114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453080" y="38782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19720" y="16686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3880" y="1179360"/>
            <a:ext cx="27403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BO vstoupí do hřiště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lečně s Trail zajistí hladk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ůběh vstupu hráčů na ploch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7120" y="4602240"/>
            <a:ext cx="27417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šichni rozhodčí se shromážd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 středu hřiště, určí mí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hájení hry, zapíší si, kter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ým a kdy požádal o time-ou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řípadně porovnají svoj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áznamy o skóre atd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5479560" y="3001680"/>
            <a:ext cx="1917720" cy="100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165360" y="1407960"/>
            <a:ext cx="1155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rot="16200000">
            <a:off x="8624880" y="608796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889280" y="644220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33520" y="4111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26040" y="4983120"/>
            <a:ext cx="26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námka: Časoměřič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ozorní rozhodčí 30s př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ncem time-out. HR zapísk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oznámí to týmů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6123200">
            <a:off x="8273880" y="54723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97240" y="2181240"/>
            <a:ext cx="263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Lead (on ball) přikryje míč čepicí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na místě, kde byl v okamžik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přerušení h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Kšilt čepice ukazuje směr h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267080" y="10270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724280" y="18651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114800" y="1825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029200" y="1825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666880" y="716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6553080" y="716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08680" y="792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78560" y="4748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964520" y="2444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931000" y="2444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273560" y="2588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1080" y="5698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91320" y="5698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04920" y="6732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04760" y="6872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26440" y="3916440"/>
            <a:ext cx="89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ěr h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539640" y="1071720"/>
            <a:ext cx="8064720" cy="5092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044960" y="20178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21280" y="529416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3200400" y="201096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943600" y="1934640"/>
            <a:ext cx="0" cy="336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378080" y="34336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397640" y="34336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309920" y="3343320"/>
            <a:ext cx="52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382280" y="3390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3200400" y="604944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3200400" y="559224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943600" y="10969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3200400" y="109656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3200400" y="521136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5943600" y="521136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5943600" y="15537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4572000" y="1020240"/>
            <a:ext cx="0" cy="519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535080" y="6248520"/>
            <a:ext cx="2092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tup při rvač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32080" y="646128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959360" y="3166920"/>
            <a:ext cx="673200" cy="368280"/>
          </a:xfrm>
          <a:prstGeom prst="rightArrow">
            <a:avLst>
              <a:gd name="adj1" fmla="val 50000"/>
              <a:gd name="adj2" fmla="val 91406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540480" y="3184560"/>
            <a:ext cx="122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/O   rvač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453440" y="26589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148160" y="39546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72000" y="22017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948640" y="4267080"/>
            <a:ext cx="279504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a Single musí výrazným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louhým pískáním přerušit hru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pamatovat si čísla účastník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vačk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kud to jde, dostat se mez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váč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držet ostatní hráče mim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11680" y="1332000"/>
            <a:ext cx="215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ADRŽET STŘÍDAČ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5562720" y="17823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6775560" y="3611160"/>
            <a:ext cx="31752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7079760" y="2786040"/>
            <a:ext cx="24156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rot="16200000">
            <a:off x="8624880" y="608796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000" y="1179360"/>
            <a:ext cx="25437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námka: Koučové jso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vinni zadržet své hráče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řídač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119320" y="6531120"/>
            <a:ext cx="1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33520" y="4111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10560" y="1089000"/>
            <a:ext cx="2586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BO a Trail musí zadrž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ráče na střídačkách. Postav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 čelem k ni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BO zkontroluje zastaven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časomí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rot="16123200">
            <a:off x="8273880" y="54723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581280" y="102708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4400" y="5211720"/>
            <a:ext cx="25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Poznámka: Všichni rozhodčí 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musí po rvačce sejít a zhodnot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situa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Poté co nejrychleji zahájí  hr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4114800" y="1825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029200" y="1825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2666880" y="716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553080" y="716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08680" y="792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678560" y="4748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64520" y="2444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931000" y="2444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273560" y="2588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981080" y="5698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91320" y="5698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04920" y="6732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804760" y="6872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802400" y="2697120"/>
            <a:ext cx="89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ěr h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 flipV="1">
            <a:off x="3200400" y="201096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runningref" descr=""/>
          <p:cNvPicPr/>
          <p:nvPr/>
        </p:nvPicPr>
        <p:blipFill>
          <a:blip r:embed="rId1"/>
          <a:stretch/>
        </p:blipFill>
        <p:spPr>
          <a:xfrm>
            <a:off x="3328920" y="4373640"/>
            <a:ext cx="785880" cy="83808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539640" y="1071720"/>
            <a:ext cx="8064720" cy="5092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44960" y="20178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121280" y="529416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5943600" y="1934640"/>
            <a:ext cx="0" cy="336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378080" y="34336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397640" y="34336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09920" y="3343320"/>
            <a:ext cx="52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382280" y="3390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3200400" y="604944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3200400" y="559224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5943600" y="10969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3200400" y="109656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3200400" y="521136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5943600" y="521136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943600" y="15537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4572000" y="1020240"/>
            <a:ext cx="0" cy="519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479200" y="6248520"/>
            <a:ext cx="30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dělení trestu po výhodě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508040" y="646128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200400" y="19414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18960" y="40305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433520" y="28875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296000" y="4678200"/>
            <a:ext cx="213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hlásí výhodu z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7120" y="4983120"/>
            <a:ext cx="2661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píská přesune se 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rného úhlu Trialu a hlás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 faul. Pak zvedne prapor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připraví se k zahájení h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7840" y="1103400"/>
            <a:ext cx="2610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se postaví do zorné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úhlu Single i CBO, předáv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lášení CBO a ověřuje přijetí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09840" y="4983120"/>
            <a:ext cx="2510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námka: Rozhodčí, kteř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jsou zaměstnáni hlášení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ulu by měli připravit 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jrychlejší zahájení h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2521080" y="3992040"/>
            <a:ext cx="113004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16200000">
            <a:off x="8624880" y="608796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33520" y="4111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16123200">
            <a:off x="8273880" y="54723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52680" y="239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581280" y="1865160"/>
            <a:ext cx="15264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4114800" y="1825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5029200" y="1825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2666880" y="716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553080" y="716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718160" y="792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16600" y="4748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964520" y="2444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931000" y="2444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273560" y="2588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81080" y="5698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791320" y="5698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704920" y="6732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804760" y="6872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8560" y="39924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Označte hráč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25320" y="1173240"/>
            <a:ext cx="25117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hlásí faul tak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barva tý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číslo hráč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 typ a signál přestup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) délka tre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ujistí se, že CBO rozumě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runningref" descr=""/>
          <p:cNvPicPr/>
          <p:nvPr/>
        </p:nvPicPr>
        <p:blipFill>
          <a:blip r:embed="rId1"/>
          <a:stretch/>
        </p:blipFill>
        <p:spPr>
          <a:xfrm>
            <a:off x="5105520" y="1174680"/>
            <a:ext cx="642960" cy="68580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533520" y="1073160"/>
            <a:ext cx="8064360" cy="50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038480" y="201924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529596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3193920" y="201276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5937120" y="1936800"/>
            <a:ext cx="0" cy="33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371600" y="34354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34354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303800" y="3344760"/>
            <a:ext cx="52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375800" y="33926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3193920" y="60516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3193920" y="55944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5937120" y="109836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3193920" y="109872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3193920" y="521316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5937120" y="5213520"/>
            <a:ext cx="0" cy="10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5937120" y="15555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4565520" y="1022400"/>
            <a:ext cx="0" cy="51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479200" y="6248520"/>
            <a:ext cx="30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dělení trestu po výhodě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433520" y="6464160"/>
            <a:ext cx="18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389560" y="18986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13080" y="40323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446960" y="28893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94000" y="1128600"/>
            <a:ext cx="24613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hlásí faul tak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barva tý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číslo hráč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 typ a signál přestup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) délka tre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ujistí se, že CBO rozumě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578920" y="1251000"/>
            <a:ext cx="200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hlásí výhodu z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80040" y="1860480"/>
            <a:ext cx="2216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řijde blíž, píská a hlás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ul ostatním rozhodčí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hráčům. Potom CB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004080" y="5319720"/>
            <a:ext cx="249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a Single zajistí, aby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hla po návratu Trai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hned zahájit h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638680" y="2254320"/>
            <a:ext cx="67320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2406600"/>
            <a:ext cx="74952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33520" y="412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rot="16123200">
            <a:off x="8273880" y="54741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78960" y="314784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Označte hráč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4114800" y="18396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5029200" y="18396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2666880" y="717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6553080" y="717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116600" y="793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78560" y="47628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964520" y="2462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931000" y="2462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273560" y="26028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981080" y="5716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791320" y="5716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04920" y="6746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04760" y="6890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065240"/>
            <a:ext cx="8064720" cy="50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4960" y="201132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21280" y="528804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200400" y="2004840"/>
            <a:ext cx="0" cy="321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943600" y="1928880"/>
            <a:ext cx="0" cy="33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808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64520" y="2444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1000" y="2444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764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09920" y="3336840"/>
            <a:ext cx="524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82280" y="33847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00400" y="604368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200400" y="55864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43600" y="10904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00400" y="10900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200400" y="5205240"/>
            <a:ext cx="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943600" y="52048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154764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73560" y="2588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148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5698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5698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6668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5530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572000" y="1014480"/>
            <a:ext cx="0" cy="51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84120" y="6234120"/>
            <a:ext cx="28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ed losováním o str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3916440"/>
            <a:ext cx="2666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R1 a R2 představí kapitány hlavnímu rozhodčímu (H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R1 a R2  stojí roti 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 C a M stojí  vedle HR při příchodu kapitán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332080"/>
            <a:ext cx="2757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1 a R2 si vyžádají kapitány na restraining line blízko křídelní čá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4640" y="1708200"/>
            <a:ext cx="57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28480" y="166212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1440" y="3382920"/>
            <a:ext cx="56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65840" y="6613560"/>
            <a:ext cx="99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04760" y="6872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04920" y="6732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23880" y="15256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4120" y="155412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08040" y="638496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123200">
            <a:off x="8273880" y="54723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7480" y="5059440"/>
            <a:ext cx="2531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námka: Domácí kapitá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dou ke středu první, hos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kroků za nim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9920" y="3002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880" y="503280"/>
            <a:ext cx="138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= C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 = Bench Mg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3600" y="37638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4360" y="644220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1401840"/>
            <a:ext cx="83808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1477800"/>
            <a:ext cx="83808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160" y="223992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163600"/>
            <a:ext cx="144756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579600" y="1044720"/>
            <a:ext cx="8064360" cy="5092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84560" y="19908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160880" y="526716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983200" y="1907640"/>
            <a:ext cx="0" cy="336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417680" y="34066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437600" y="34066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349880" y="3316320"/>
            <a:ext cx="52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421880" y="3363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983200" y="10699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983200" y="518436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983200" y="15267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4611600" y="993240"/>
            <a:ext cx="0" cy="519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324040" y="6248520"/>
            <a:ext cx="3291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e Clear při udělení tres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103040" y="6311880"/>
            <a:ext cx="18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18702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959160" y="40035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93040" y="28605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3240" y="1098720"/>
            <a:ext cx="24260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881760" y="1098720"/>
            <a:ext cx="120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043680" y="5289480"/>
            <a:ext cx="2544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3240" y="1146240"/>
            <a:ext cx="25639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119640" y="1222200"/>
            <a:ext cx="21355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79680" y="1123920"/>
            <a:ext cx="2423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(nový Lead) hlásí f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BO a běží na svojí poz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051240" y="1123920"/>
            <a:ext cx="2697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(nový Trail) přenese míč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středového kruhu, zaháj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ru, zkontroluje CB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běžným způsobem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řesune na svojí poz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04880" y="4803840"/>
            <a:ext cx="22633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podle  postaven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ánících hráčů buď běž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římo k brance, nebo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ředové čáře kontroluj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fs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19640" y="2898720"/>
            <a:ext cx="27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900680" y="2365200"/>
            <a:ext cx="27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8434080" y="598464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865160" y="642780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557360" y="1739880"/>
            <a:ext cx="2679840" cy="90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729480" y="2136600"/>
            <a:ext cx="96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371600" y="281952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681360" y="4194000"/>
            <a:ext cx="881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496600" y="4248000"/>
            <a:ext cx="428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100480" y="3263760"/>
            <a:ext cx="673200" cy="368280"/>
          </a:xfrm>
          <a:prstGeom prst="rightArrow">
            <a:avLst>
              <a:gd name="adj1" fmla="val 50000"/>
              <a:gd name="adj2" fmla="val 91406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011200" y="3029040"/>
            <a:ext cx="237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5170320" y="1346040"/>
            <a:ext cx="0" cy="138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4401720" y="1727280"/>
            <a:ext cx="10796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107800" y="43005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33520" y="3841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6123200">
            <a:off x="8184960" y="54453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246640" y="104760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4114800" y="1555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029200" y="1555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2666880" y="68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553080" y="68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413600" y="765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268880" y="4478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64520" y="2174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931000" y="2174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73560" y="2318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981080" y="542880"/>
            <a:ext cx="1359000" cy="63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791320" y="542880"/>
            <a:ext cx="1587240" cy="63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704920" y="6462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804760" y="6602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3193920" y="198396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3193920" y="106956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3193920" y="518436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802400" y="3660840"/>
            <a:ext cx="89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ěr h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533520" y="1073160"/>
            <a:ext cx="8064360" cy="50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038480" y="201924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114800" y="529596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3193920" y="201276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937120" y="1936800"/>
            <a:ext cx="0" cy="33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371600" y="34354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391520" y="34354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303800" y="3344760"/>
            <a:ext cx="52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75800" y="33926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3193920" y="60516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3193920" y="55944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5937120" y="109836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3193920" y="109872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3193920" y="521316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5937120" y="5213520"/>
            <a:ext cx="0" cy="10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5937120" y="15555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4565520" y="1022400"/>
            <a:ext cx="0" cy="51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17000" y="6464160"/>
            <a:ext cx="1329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znám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432080" y="646272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531120" y="3184560"/>
            <a:ext cx="80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445520" y="2658960"/>
            <a:ext cx="353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140600" y="3954600"/>
            <a:ext cx="36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464080" y="2201760"/>
            <a:ext cx="354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997600" y="5013360"/>
            <a:ext cx="25797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97400" y="1355760"/>
            <a:ext cx="178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1181160"/>
            <a:ext cx="683676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matujte s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  Setkání rozhodčích při time-o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  Vizuální kontakt při všech face-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   Rychlé, ale kontrolované znovuzahájení h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)   Zdržování je v kompetenci on-ball rozhodčíh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)   Po hřišti se nechodí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)   Signály dávejte raději později, ale přesně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)   Všichni Vás vidí a pozorují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) …………………………………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) …………………………………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) …………………………………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) …………………………………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) …………………………………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) …………………………………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16123200">
            <a:off x="8251560" y="532800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runningref" descr=""/>
          <p:cNvPicPr/>
          <p:nvPr/>
        </p:nvPicPr>
        <p:blipFill>
          <a:blip r:embed="rId1"/>
          <a:stretch/>
        </p:blipFill>
        <p:spPr>
          <a:xfrm>
            <a:off x="6019920" y="1708200"/>
            <a:ext cx="1071360" cy="114300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 flipV="1">
            <a:off x="4114800" y="18396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5029200" y="18396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2666880" y="717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6553080" y="717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964520" y="2462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931000" y="2462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273560" y="26028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981080" y="5716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791320" y="5716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704920" y="6746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804760" y="6890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065240"/>
            <a:ext cx="8064720" cy="50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44960" y="201132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21280" y="528804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00400" y="2004840"/>
            <a:ext cx="0" cy="321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43600" y="1928880"/>
            <a:ext cx="0" cy="33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808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764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9920" y="3336840"/>
            <a:ext cx="524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82280" y="33847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200400" y="604368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00400" y="55864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943600" y="10904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200400" y="10900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200400" y="5205240"/>
            <a:ext cx="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52048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43600" y="154764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1148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0292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6668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5530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72000" y="1014480"/>
            <a:ext cx="0" cy="51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040" y="6278400"/>
            <a:ext cx="21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sování o str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77800" y="37879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X 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7800" y="302580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O 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0" y="3370320"/>
            <a:ext cx="56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37200" y="944640"/>
            <a:ext cx="2649600" cy="45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Domácí kapitáni stojí tváří ke stří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Hosté zvolí stranu mince př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sování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HR zopakuje jejich volbu, ukáže minci všem zůčastněným, hodí, chytí minci a bez otáče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i znovu  ukáže oběma straná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Vítěz zvolí stra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HR otočí celou skupinu pod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ýsledku losování, tak, jak nastoupí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 prvnímu face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HR naznačí pohybem střely každ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aně směr jejich h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) HR určí způsob nastoupení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ákladních sestav před utkáním - tj. levým ramenem k vlastní b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1400" y="1197000"/>
            <a:ext cx="2529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námka: Používejte minci o průměru  minimálně 2,5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84360" y="638496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8472240" y="601164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5600" y="4754520"/>
            <a:ext cx="25466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námka: R1 a 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kontrolují po losová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ítě a odstraní míče z brane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BO zkontroluje časomír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zapisovač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38640" y="637848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11320" y="3002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825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3960" y="2925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8120" y="37782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5000" y="37479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6431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880" y="487440"/>
            <a:ext cx="138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= C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 = Bench Mg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123200">
            <a:off x="8273880" y="54723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64520" y="2444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31000" y="2444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73560" y="2588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5698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5698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04760" y="6872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4920" y="6732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1065240"/>
            <a:ext cx="8064720" cy="50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44960" y="201132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21280" y="528804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00400" y="2004840"/>
            <a:ext cx="0" cy="321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943600" y="1928880"/>
            <a:ext cx="0" cy="33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808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764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9920" y="3336840"/>
            <a:ext cx="524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82280" y="33847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200400" y="604368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200400" y="55864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943600" y="10904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00400" y="10900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00400" y="5205240"/>
            <a:ext cx="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943600" y="52048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3600" y="154764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1148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0292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6668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5530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72000" y="1014480"/>
            <a:ext cx="0" cy="51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48400" y="6278400"/>
            <a:ext cx="1940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ástup k utk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0720" y="4040280"/>
            <a:ext cx="139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XXXX  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47040" y="2973240"/>
            <a:ext cx="1431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OO OOO G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2840" y="3382920"/>
            <a:ext cx="56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4800" y="323064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4800" y="368784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06960" y="1220760"/>
            <a:ext cx="278748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Týmy stojí levým ramen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 brance, kterou budou háj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 první čtvrtin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Hr představí sebe a ostatn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zhodčí oběma týmům, můž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mínit některé zvláštní aspek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tká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 HR vyzve brankáře k podán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ky a poté i hráč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) Všichni zaujmou svá mí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5440" y="1096920"/>
            <a:ext cx="2681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námka: R1 a R2 se postaví tak, aby svojí pozicí určili vzdálenost mezi oběma tý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08040" y="638496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8548560" y="601164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6760" y="3078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825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6400" y="37638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3080" y="5273640"/>
            <a:ext cx="230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námka: HR představ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šechny rozhodčí obě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ýmů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880" y="487440"/>
            <a:ext cx="138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= C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 = Bench Mg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64310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123200">
            <a:off x="8273880" y="54723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64520" y="2444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31000" y="2444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73560" y="2588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5698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5698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04760" y="6872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04920" y="6732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9640" y="1065240"/>
            <a:ext cx="8064720" cy="50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44960" y="201132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21280" y="528804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200400" y="2004840"/>
            <a:ext cx="0" cy="321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3600" y="1928880"/>
            <a:ext cx="0" cy="33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808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9764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09920" y="3336840"/>
            <a:ext cx="524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82280" y="33847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200400" y="604368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0400" y="55864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943600" y="10904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00400" y="10900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0400" y="5205240"/>
            <a:ext cx="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943600" y="52048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154764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148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0292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6668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5530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572000" y="1014480"/>
            <a:ext cx="0" cy="51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98280" y="6234120"/>
            <a:ext cx="304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íprava prvního Face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09120" y="341460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52480" y="21351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52480" y="35067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52480" y="41450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040" y="19828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57040" y="33544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81080" y="40687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85840" y="1754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00040" y="1754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52680" y="32781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62160" y="5259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33560" y="36590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6360" y="5259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2362320"/>
            <a:ext cx="2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10080" y="38116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57440" y="22874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10280" y="464976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62360" y="25160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14640" y="35830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24480" y="42688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53080" y="34304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09160" y="3216240"/>
            <a:ext cx="56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080" y="155412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4280" y="513540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1096920"/>
            <a:ext cx="2743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R1 dostane signál od C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  a dává signál HR  v okamžiku kdy jsou všichni tři připrave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HR zahájí face-off - ukáže na střed a dá pokyn “dolů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 R1 a R hlídají off-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84360" y="638496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554360"/>
            <a:ext cx="25146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námka: R2 se postaví blíže ke středové čáře, tak aby přes HR viděl na R1. Po signálu, že vše je v pořádku, se vrátí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trining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334120" y="53640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46720" y="55926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825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6600" y="4874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81640" y="72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840" y="563400"/>
            <a:ext cx="138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= C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 = Bench Mg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123200">
            <a:off x="8273880" y="54723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64520" y="2444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31000" y="2444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73560" y="2588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81080" y="5698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91320" y="5698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04760" y="6872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04920" y="6732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9640" y="1098720"/>
            <a:ext cx="8064720" cy="50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44960" y="20448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1280" y="532116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200400" y="203796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943600" y="1961640"/>
            <a:ext cx="0" cy="336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8080" y="34606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97640" y="346068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09920" y="3370320"/>
            <a:ext cx="52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2280" y="3417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00400" y="607644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00400" y="561924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943600" y="11239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200400" y="112356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200400" y="523836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943600" y="523836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943600" y="184140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572000" y="1047240"/>
            <a:ext cx="0" cy="519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8640" y="6265800"/>
            <a:ext cx="171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09120" y="344808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52480" y="21686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52480" y="3540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52480" y="48355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57040" y="201600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57040" y="338760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81080" y="475920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85840" y="178740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00040" y="178740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52680" y="33116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62160" y="52927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33560" y="36925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76360" y="52927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56360" y="2395440"/>
            <a:ext cx="2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10080" y="384480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57440" y="23209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910280" y="468324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62360" y="25495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14640" y="361620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4480" y="430200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53080" y="34639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00400" y="33717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15112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04760" y="53532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130400"/>
            <a:ext cx="23004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signalizuje possesion a barvu týmu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ěží ke střídačce a kontroluje offside se CB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k zaujme běžné postavení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09280" y="6311880"/>
            <a:ext cx="430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i “possession” (míč směřuje od 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35680" y="311796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05520" y="5245200"/>
            <a:ext cx="26812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nemusí v tomto případě zastavovat na kříži,   cestou sleduje hráč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1130400"/>
            <a:ext cx="28195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běží k bráně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vždy tam musí být včes na pokratí brankoviště nebo zadní čáry) a současně pokrývá případné fauly “on-ball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84360" y="641844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8548560" y="612108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359160" y="4628880"/>
            <a:ext cx="349236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1981080"/>
            <a:ext cx="167004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70160" y="6334200"/>
            <a:ext cx="15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44460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1206360"/>
            <a:ext cx="533160" cy="762120"/>
          </a:xfrm>
          <a:custGeom>
            <a:avLst/>
            <a:gdLst>
              <a:gd name="textAreaLeft" fmla="*/ 0 w 533160"/>
              <a:gd name="textAreaRight" fmla="*/ 533520 w 53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047600">
            <a:off x="3724200" y="2653920"/>
            <a:ext cx="723960" cy="419040"/>
          </a:xfrm>
          <a:custGeom>
            <a:avLst/>
            <a:gdLst>
              <a:gd name="textAreaLeft" fmla="*/ 113040 w 723960"/>
              <a:gd name="textAreaRight" fmla="*/ 633600 w 723960"/>
              <a:gd name="textAreaTop" fmla="*/ 104760 h 419040"/>
              <a:gd name="textAreaBottom" fmla="*/ 314280 h 419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4446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16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9240" y="303120"/>
            <a:ext cx="92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L = L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S =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T = Tr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6123200">
            <a:off x="8273880" y="550584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114800" y="2095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029200" y="2095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666880" y="743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553080" y="743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6600" y="52056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81640" y="7603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64520" y="27792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31000" y="27792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73560" y="29196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60336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60336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04760" y="72072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04920" y="70632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4190760" y="8251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95680" y="596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97000" y="2730600"/>
            <a:ext cx="108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ěr h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9640" y="1066680"/>
            <a:ext cx="8064720" cy="509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44960" y="201312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21280" y="52894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200628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943600" y="1929960"/>
            <a:ext cx="0" cy="336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8080" y="342900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7640" y="342900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09920" y="3338640"/>
            <a:ext cx="52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82280" y="338616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00400" y="60447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00400" y="55875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43600" y="10922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00400" y="10918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200400" y="520668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943600" y="52066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943600" y="1549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572000" y="1015560"/>
            <a:ext cx="0" cy="519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08640" y="6234120"/>
            <a:ext cx="171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09120" y="341640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560" y="2546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2480" y="350820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28440" y="44989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440" y="22417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57040" y="33559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81080" y="419400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5840" y="17557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00040" y="17557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52680" y="327960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62160" y="52610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33560" y="36608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76360" y="52610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56360" y="2363760"/>
            <a:ext cx="2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10080" y="38131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57440" y="2289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910280" y="465120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62360" y="25178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14640" y="35845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24480" y="4270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53080" y="3432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00400" y="33400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14796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7760" y="5060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1251000"/>
            <a:ext cx="22510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se pokud možno vyhne hráčům a co nejdříve zaujme obvyklou pozic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tom signalizuje Singlovi, že má přehl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09280" y="6248520"/>
            <a:ext cx="430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i “possession” (míč směřuje na 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035680" y="308628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4800600"/>
            <a:ext cx="2681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musí pokrýt brankoviště a zadní čáru dokud Lead nezaujme svoji pozici a signalizuje pokrytí rukou na prso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1266840"/>
            <a:ext cx="274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běží ke střídačc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ntroluje offside se CB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k zaujme běžné postavení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84360" y="6386400"/>
            <a:ext cx="225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3428640" y="2317680"/>
            <a:ext cx="46980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371240" y="2089080"/>
            <a:ext cx="19177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8548560" y="608940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90720" y="6456240"/>
            <a:ext cx="181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1670040" y="4140000"/>
            <a:ext cx="1378080" cy="9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84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3680" y="184320"/>
            <a:ext cx="92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L = L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S =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T = Tr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123200">
            <a:off x="8273880" y="54741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4723920" y="1174320"/>
            <a:ext cx="8384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885840" y="1174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724280" y="86976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14800" y="1778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029200" y="1778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666880" y="711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553080" y="711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6600" y="48888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7286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64520" y="2462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31000" y="2462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3560" y="26028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5716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91320" y="5716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04760" y="6890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04920" y="6746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97000" y="2698920"/>
            <a:ext cx="108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ěr h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539640" y="1065240"/>
            <a:ext cx="8064720" cy="50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01132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21280" y="528804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200400" y="2004840"/>
            <a:ext cx="0" cy="321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43600" y="1928880"/>
            <a:ext cx="0" cy="33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808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7640" y="342756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09920" y="3336840"/>
            <a:ext cx="524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82280" y="33847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200400" y="604368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200400" y="55864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943600" y="10904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200400" y="10900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200400" y="5205240"/>
            <a:ext cx="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3600" y="52048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943600" y="154764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572000" y="1014480"/>
            <a:ext cx="0" cy="51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84840" y="6248520"/>
            <a:ext cx="193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vyklá situ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282120" y="2932200"/>
            <a:ext cx="825480" cy="291960"/>
          </a:xfrm>
          <a:prstGeom prst="rightArrow">
            <a:avLst>
              <a:gd name="adj1" fmla="val 50000"/>
              <a:gd name="adj2" fmla="val 141382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33520" y="30560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66680" y="41227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21636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2600" y="1189080"/>
            <a:ext cx="27241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zaujme pozici cca 5m od brankoviště a snaží se aby měl hru neustále před sebou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hybuje se od a k brankovišti odle pohybu míč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4373640"/>
            <a:ext cx="27432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zaujme postavení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hybuje se od a k brankovišti odle pohybu míč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dyž Lead musí pokrýt zadní čáru, Single přebírá zodpovědnost za brankoviště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05520" y="1273320"/>
            <a:ext cx="268128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po kontrole offside 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BO zaujme běžnou pozic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5m od postranní a 5m od středové čá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sí být připraven pokrýt případný fast break na druhou str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84360" y="6384960"/>
            <a:ext cx="225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8548560" y="6011640"/>
            <a:ext cx="3333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28800" y="645480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4111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6123200">
            <a:off x="8273880" y="54723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1400" y="182520"/>
            <a:ext cx="92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L = L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S =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T = Tr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148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029200" y="1760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6668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553080" y="70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6600" y="4874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18160" y="72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64520" y="2444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31000" y="2444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73560" y="25884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5698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5698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04760" y="6872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04920" y="67320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73120" y="2544840"/>
            <a:ext cx="108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ěr h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2133720" y="399204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1523520" y="277308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539640" y="1066680"/>
            <a:ext cx="8064720" cy="509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44960" y="201312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21280" y="52894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200400" y="200628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943600" y="1929960"/>
            <a:ext cx="0" cy="336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06680" y="342900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97640" y="3429000"/>
            <a:ext cx="368280" cy="36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09920" y="3338640"/>
            <a:ext cx="52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82280" y="338616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200400" y="60447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200400" y="55875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943600" y="10922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200400" y="10918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200400" y="520668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5943600" y="52066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5943600" y="1549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572000" y="1015560"/>
            <a:ext cx="0" cy="519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71240" y="6248520"/>
            <a:ext cx="545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storová zodpovědnost během obvyklé situ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01640" y="2959200"/>
            <a:ext cx="301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5640" y="49086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43200" y="222732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656880" y="4070520"/>
            <a:ext cx="368280" cy="139680"/>
          </a:xfrm>
          <a:prstGeom prst="rightArrow">
            <a:avLst>
              <a:gd name="adj1" fmla="val 50000"/>
              <a:gd name="adj2" fmla="val 131842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5440" y="1198440"/>
            <a:ext cx="26812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 zodpovídá za  brankoviště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e off -ball tzn. nesleduje míč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dpovídá za brankoviště, clony, bránění at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6920" y="5518080"/>
            <a:ext cx="1574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je on-ba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7560" y="1122480"/>
            <a:ext cx="2284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l je připraven převzí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ici on ball a specialně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eduje pozdní úd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23160" y="2241720"/>
            <a:ext cx="2299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námka: Single a Le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lu musí komunikov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/OFF-BA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432080" y="6386400"/>
            <a:ext cx="225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8548560" y="6013080"/>
            <a:ext cx="3337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47200" y="4603680"/>
            <a:ext cx="95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s míč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40705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81440" y="638028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3520" y="412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123200">
            <a:off x="8273880" y="5474160"/>
            <a:ext cx="1219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LAX Prod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533160" y="3765600"/>
            <a:ext cx="1143000" cy="236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81080" y="361332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0120" y="3765600"/>
            <a:ext cx="990360" cy="243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114800" y="1778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029200" y="17784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666880" y="711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553080" y="711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16600" y="48888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6080" y="717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64520" y="24624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Á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31000" y="246240"/>
            <a:ext cx="14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3560" y="260280"/>
            <a:ext cx="596880" cy="13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81080" y="571680"/>
            <a:ext cx="135900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571680"/>
            <a:ext cx="158724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04760" y="6890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04920" y="674640"/>
            <a:ext cx="62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54840" y="4222800"/>
            <a:ext cx="89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ěr h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3:34:02Z</dcterms:created>
  <dc:creator>John P. Hill</dc:creator>
  <dc:description/>
  <dc:language>en-US</dc:language>
  <cp:lastModifiedBy>West Media</cp:lastModifiedBy>
  <cp:lastPrinted>2001-04-04T15:53:12Z</cp:lastPrinted>
  <dcterms:modified xsi:type="dcterms:W3CDTF">2001-04-06T06:26:10Z</dcterms:modified>
  <cp:revision>303</cp:revision>
  <dc:subject>3 man mechanics</dc:subject>
  <dc:title>PRE-GAME MECHANICS </dc:title>
</cp:coreProperties>
</file>