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043-EF2B-4D25-9FE0-FA025A42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050-D7E9-495D-BA07-282EC58F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2C9-6198-4BF3-BCE0-9AE0742B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201-2EB6-4740-924A-1FBAD4A3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8C68-5AD5-4190-88DB-8EF00F81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2CA4-026D-4536-92F2-98D1FF2F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7FB0-45A7-4E37-911A-E20A8195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9403-1575-4383-A945-BA27477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6B45-44DF-4CD2-8401-0BCE9639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66F3-CD1F-4343-8EB5-AFF4F0C4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8421-EB4F-4702-BBEB-076D0F79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AC0-BE5A-4CB6-98C3-9F40DE4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E268-011D-421E-8E38-93177AA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369E-C2A6-47AB-B74E-5E31D288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13F8-48B6-4501-8F80-5163C6F9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24F5-E53A-4482-8F1B-8BB9800C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8140-ED46-42BF-A355-ECDD5345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02A-E642-4A37-AD35-4BE05E78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462-F7B9-4E7A-A8E2-CBBA4BA5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639-3D33-438F-8510-9DEB392D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FEA-3C4E-4C55-BFD8-36B86936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294-687A-4030-B970-795436D9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408-8082-4165-85A5-7E210258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3726-4029-4EA2-BDA0-EEE287C3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5D9D-07E5-454E-A40E-CB7EAFB7E3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383D-9D21-459A-AD93-2112D21BE2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Arial"/>
              </a:rPr>
              <a:t>Český svaz mužského lakros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chanika písk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ox lakro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934320" y="3733920"/>
          <a:ext cx="188748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733920"/>
                    <a:ext cx="18874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Míč do držení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2514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hájí hr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5257800" cy="384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okrývané územ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2590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á hráče s míčem a jeho obránce, pokud míč není v zóně le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á vše ostatn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5715000" cy="418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 Off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ve středovém kruh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048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Rozhodčí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1 (R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dpovědný z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ace off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řestupky př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ce off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tane 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lead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na polovině za jeho zád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1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avol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“clear “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– informuje ostatní, že se míč dostal z kruhu 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ace off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Rozhodčí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 (R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dpovědný za přestupky na čárá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tane se leadem LO na polovině, ke které je R1 čel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O=lead offi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TO=trail offi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429000" y="1981080"/>
          <a:ext cx="5334120" cy="389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981080"/>
                    <a:ext cx="533412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Základní postav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289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čkované čáry značí směr pohyb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ůstává přede hr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ásleduje posledního hráč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zahušťujte prostor u mantinel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4864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ostavení lea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362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esné místo určuje herní situace a náboj h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kuste se mít hru před sebou tím, že couváte směrem k zadnímu nebo postrannímu mantinel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5715000" cy="418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Kam po gó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66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d Off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hlásí gól a sleduje případné fauly po gólu, pak bere míč z brank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 sledování hráčů se přesune na stř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ipraví se 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ace off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lem k brance, kam gól padn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il Off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leduje případné fauly po gó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hlásí gól zapisovači a připraví se 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ace off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429000" y="1676520"/>
          <a:ext cx="5334120" cy="39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676520"/>
                    <a:ext cx="533412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ostavení při oslab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590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il off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esune se na své straně blíže k brankoviš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usí být př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ast brea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 připraven odskočit, aby nepřekážel, a běžet na druhý konec ploch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5791320" cy="42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Trest signalizovaný lead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2895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d Off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hlásí trest zapisovači a sleduje ostřejší výměny názor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ujme pozici traila a zahájí hru útočícího týmu ve střední zón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il Off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leduje hádky a jde pro míč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ujme míst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a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závislosti na tom, který tým získá míč do držen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124080" y="1447920"/>
          <a:ext cx="5562720" cy="40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447920"/>
                    <a:ext cx="55627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Trest signalizovaná trai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048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l Off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hlásí trest zapisovači a sleduje ostřejší výměny názo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ujme pozici traila a zahájí hru útočícího týmu ve střední zó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 Off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leduje hádky a jde pro mí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ujme míst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a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závislosti na tom, který tým získá míč do dr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00400" y="1676520"/>
          <a:ext cx="5562720" cy="40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676520"/>
                    <a:ext cx="55627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Míč do držení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2971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hájí hr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kud je to nutné, jde trail k míč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5486400" cy="401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304920" y="304920"/>
          <a:ext cx="71424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714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8:24:53Z</dcterms:created>
  <dc:creator>David Miriguay</dc:creator>
  <dc:description/>
  <dc:language>en-US</dc:language>
  <cp:lastModifiedBy>Unicom Praha</cp:lastModifiedBy>
  <dcterms:modified xsi:type="dcterms:W3CDTF">2006-12-07T20:40:03Z</dcterms:modified>
  <cp:revision>18</cp:revision>
  <dc:subject/>
  <dc:title>Canadian Lacrosse Assoc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5119472</vt:r8>
  </property>
  <property fmtid="{D5CDD505-2E9C-101B-9397-08002B2CF9AE}" pid="3" name="_AuthorEmail">
    <vt:lpwstr>petr.bek@oavin.cz</vt:lpwstr>
  </property>
  <property fmtid="{D5CDD505-2E9C-101B-9397-08002B2CF9AE}" pid="4" name="_AuthorEmailDisplayName">
    <vt:lpwstr>Petr Bek</vt:lpwstr>
  </property>
  <property fmtid="{D5CDD505-2E9C-101B-9397-08002B2CF9AE}" pid="5" name="_EmailSubject">
    <vt:lpwstr>k pravidlům</vt:lpwstr>
  </property>
</Properties>
</file>